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1B7-10E5-4F2F-9E76-43E210E3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DE5-6EFF-410C-89B3-2D77EEB0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89A-5CFB-4EF0-B3AC-4650FE7B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ADA-365E-447D-9FAD-1D4258F0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4AB7-934A-440A-B6F6-FE9533F7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2EC4-4B5F-4919-8B4B-085E490C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E962-B4EF-4EC4-BF68-685DB47C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481D-99B7-49FE-B89F-38379E2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A1AF-595E-403A-BC9F-2DF7F585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4658-11C1-4924-8A09-45025D7E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D65D-F4C4-4C54-A532-7AEFAA1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941-A509-4CCF-A803-9F75B588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02F0-0057-48A5-A0FB-CFBEC3D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11B6-1533-40F1-A0BC-DE0C96A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5577-AFCC-4FF7-8393-3530AE2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6A20-FCCB-4CD2-B82C-A5568215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5860-3E0C-45DF-A751-50F2478E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02B-4988-4AC6-BBE4-0BC563A8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A0F-EA54-49CC-85A7-A57939E2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F5B-1477-45C6-9A6A-26AD7E19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D6B-9E31-4D38-B92B-76D25835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94F-F1B7-4FE9-873A-F9B27E34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AE76-CE78-4702-80F3-12DA898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300-704E-4BD9-A55E-384CFFAD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2588-D83B-4EB8-9B81-BD4C2B8536C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DC2C-88B0-413A-893E-D6EA6D21261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3400" y="1905120"/>
            <a:ext cx="729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Killer Croc”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Anticipation Guide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4360" y="1752480"/>
            <a:ext cx="856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 people who live along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 Rusizi River only hav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o worry about dangerou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rocodile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38760" y="1600200"/>
            <a:ext cx="8197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re are signs in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Australia telling peopl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not to swim in the water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because of crocodile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31280" y="1447920"/>
            <a:ext cx="8113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Families on the Rusizi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River have other ways t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bathe, fish, and gather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waters besides getting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into the river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26320" y="1752480"/>
            <a:ext cx="7950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re is a crocodil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who has killed hundre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of people in the last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30 year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42560" y="1905120"/>
            <a:ext cx="681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Herpetologists are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scientists who study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reptile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51160" y="2133720"/>
            <a:ext cx="574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re are ten typ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of crocodilian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23400" y="1905120"/>
            <a:ext cx="720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Nile crocodiles are found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in Canada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30320" y="1940040"/>
            <a:ext cx="748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Patrice Faye wanted to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atch Gustave to study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him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09600" y="1981080"/>
            <a:ext cx="663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y used a human to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ry to catch the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rocodile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96680" y="2362320"/>
            <a:ext cx="743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Crocodiles have survived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for 20 thousand year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39360" y="1828800"/>
            <a:ext cx="800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33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Nile crocodiles are smaller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and less aggressive tha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9933ff"/>
                </a:solidFill>
                <a:latin typeface="Comic Sans MS"/>
              </a:rPr>
              <a:t>their saltwater cousins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1:46:56Z</dcterms:created>
  <dc:creator>New User</dc:creator>
  <dc:description/>
  <dc:language>en-US</dc:language>
  <cp:lastModifiedBy>Rutherford County Schools</cp:lastModifiedBy>
  <dcterms:modified xsi:type="dcterms:W3CDTF">2007-04-21T15:49:21Z</dcterms:modified>
  <cp:revision>1</cp:revision>
  <dc:subject/>
  <dc:title>PowerPoint Presentation</dc:title>
</cp:coreProperties>
</file>